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713-34DF-4698-919B-336B483C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943-3C25-4F90-999C-66C3DDC3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2B0-A6DD-4CCE-B335-357CA130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FAB-552D-4D4D-8D8D-3F9EC721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8B4-7B09-41C2-9576-9634987C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C96-35B2-46D1-A09F-52EF368B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FD2-ED47-4410-89B3-79DDBD8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1E0-5202-46B5-80C1-EF4E0773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D30-90FB-4C97-A3CA-1B2784FB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BA5-A052-4EC8-A80E-F4E4341C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05F-46C5-4364-AF31-43BD0368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B62-94A3-4FC9-85BB-2266C19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DBD5-F029-4FAE-932C-677B3FC0D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non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73440" y="2957400"/>
            <a:ext cx="1795320" cy="18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178776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1830600" cy="14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1841400" cy="120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56360" y="1413000"/>
            <a:ext cx="229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193536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3573360"/>
            <a:ext cx="2411280" cy="191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1733400" cy="192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411280" y="2708280"/>
            <a:ext cx="24242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9:44Z</dcterms:created>
  <dc:creator>Marie-Pier</dc:creator>
  <dc:description/>
  <dc:language>en-US</dc:language>
  <cp:lastModifiedBy>Marie-Pier</cp:lastModifiedBy>
  <dcterms:modified xsi:type="dcterms:W3CDTF">2007-11-18T19:37:26Z</dcterms:modified>
  <cp:revision>2</cp:revision>
  <dc:subject/>
  <dc:title>Diapositive 1</dc:title>
</cp:coreProperties>
</file>